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02049"/>
        <c:axId val="95821033"/>
      </c:barChart>
      <c:catAx>
        <c:axId val="97902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21033"/>
        <c:crosses val="autoZero"/>
        <c:auto val="1"/>
        <c:lblAlgn val="ctr"/>
        <c:lblOffset val="100"/>
        <c:noMultiLvlLbl val="0"/>
      </c:catAx>
      <c:valAx>
        <c:axId val="95821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2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CA7-948E-4DD5-9A1E-B2BB5907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DAA-BDC8-4AAD-A8BF-0BE2877C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6CF-1105-4D6D-B780-58A4A5A2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796-E292-4651-AA87-9AE36850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DDB-1137-4E79-AC1D-C456F28E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32E-49D8-4D29-AB75-5BC72EDC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296-34AA-49A8-AC81-8B4F9577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DBD-802F-4CD5-8153-497CF54D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463-376A-4F5F-8D26-4871DDAD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515-8437-4CE4-BFC5-2858C6F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419-BD87-4462-9695-5CE0DE4A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E97-DF6B-410E-9461-09B7578E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0ED2E-CDD8-45D1-BB86-7805A2E2B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