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371528"/>
        <c:axId val="50523040"/>
      </c:barChart>
      <c:catAx>
        <c:axId val="753715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23040"/>
        <c:crosses val="autoZero"/>
        <c:auto val="1"/>
        <c:lblAlgn val="ctr"/>
        <c:lblOffset val="100"/>
        <c:noMultiLvlLbl val="0"/>
      </c:catAx>
      <c:valAx>
        <c:axId val="505230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715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F118-A522-4DA2-B4CA-157DF0483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9522-D153-4C55-9E8B-1B5FB407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2C83-B307-4B92-8724-4C0864C0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8620-2639-4D3B-80E2-540C027C1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092F-3FAE-4A33-AA39-583AE59A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D0AF-D38F-45CC-A429-E1FD44F7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1AF6-2796-489C-B2BC-52BD5501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656D-5977-4537-871E-A427B25D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F99A-84D5-42B8-AB98-E1C59F7D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87AF-8BE6-4E44-AE5D-378E8E5C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DF87-E1F2-4CEA-A340-A939A168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36F9-4CC6-408D-BBBD-A5A80E53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614E3-A0AF-432D-B83B-55FAAB59FD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