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75648"/>
        <c:axId val="48287707"/>
      </c:barChart>
      <c:catAx>
        <c:axId val="82175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87707"/>
        <c:crosses val="autoZero"/>
        <c:auto val="1"/>
        <c:lblAlgn val="ctr"/>
        <c:lblOffset val="100"/>
        <c:noMultiLvlLbl val="0"/>
      </c:catAx>
      <c:valAx>
        <c:axId val="48287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75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7D7-4E27-406E-8979-C6C11AB0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7CA-99D6-4BFA-8096-2DC99C60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61E-DB9B-49B1-A233-4D9FB614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C72-F0F9-48FB-B035-AD84F79B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F82-A44C-45AC-BCB2-63282D17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3D1-4D01-447A-9364-969C3CBC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317-56D3-42D9-8A6A-C94FFB1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38A-AABB-4536-9C37-95407FFB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A5D-341B-4449-8EC5-08A8606C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935-D81E-458B-B7DF-991430F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40D-08A7-4919-8D3B-D764D4B1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A70-4ED4-48D4-B419-8AFD15B1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A87C4-28CE-4715-88C3-28BC170427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