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859117"/>
        <c:axId val="38320891"/>
      </c:barChart>
      <c:catAx>
        <c:axId val="348591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20891"/>
        <c:crosses val="autoZero"/>
        <c:auto val="1"/>
        <c:lblAlgn val="ctr"/>
        <c:lblOffset val="100"/>
        <c:noMultiLvlLbl val="0"/>
      </c:catAx>
      <c:valAx>
        <c:axId val="383208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591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D26-10F3-4B77-85A8-3F275664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499A-8D3B-47BB-959D-9A3836B7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445A-0B8D-433E-B448-C139246D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6501-6E98-4515-BBF2-527CBD0A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50F2-7E8C-47E5-A91E-5C53615B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F0E1-A581-4A99-A8BD-13D25660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771E-DDD7-46ED-B901-0E576AA9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F9E0-EBDE-49D6-A2FA-5209BBD1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FD60-2FA1-4C2D-9CE5-1E6B41BB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40B6-BCE5-4FF6-8F6A-70DA270C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4048-F118-4CD8-8B91-4A55F26C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D19E-D42E-4909-B630-98862BEE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D2A2B-3161-47C6-9506-884EBB7C68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