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69749"/>
        <c:axId val="36916307"/>
      </c:barChart>
      <c:catAx>
        <c:axId val="34369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916307"/>
        <c:crosses val="autoZero"/>
        <c:auto val="1"/>
        <c:lblAlgn val="ctr"/>
        <c:lblOffset val="100"/>
        <c:noMultiLvlLbl val="0"/>
      </c:catAx>
      <c:valAx>
        <c:axId val="36916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69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AEA-415C-4D97-A5C6-32264161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93F-BC20-470F-A404-A40E0F4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1967-E175-4439-8BAF-13F2AF6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3DA-1B9E-4540-904A-3891EF53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B41-FC3A-47E2-A691-5BC0A39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FF22-E8FF-464C-AC1D-C85104F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0B4-9B64-4B0B-8AFC-153D8C49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AA8-6724-425F-997D-7694834C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71E-9949-4EDC-9589-3E117DE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2F46-7314-4F93-A5C3-61868DB6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398-9224-4C40-8625-64500AA5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9AC-9B5C-4DF9-A34D-FD22A39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85187-5EB8-46AE-A0B6-B85A45F170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